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25.png" ContentType="image/png"/>
  <Override PartName="/ppt/media/image18.jpeg" ContentType="image/jpeg"/>
  <Override PartName="/ppt/media/CLAP.WAV" ContentType="audio/x-wav"/>
  <Override PartName="/ppt/media/image17.jpeg" ContentType="image/jpeg"/>
  <Override PartName="/ppt/media/image16.jpeg" ContentType="image/jpeg"/>
  <Override PartName="/ppt/media/TYPE.WAV" ContentType="audio/x-wav"/>
  <Override PartName="/ppt/media/image15.jpeg" ContentType="image/jpeg"/>
  <Override PartName="/ppt/media/image7.jpeg" ContentType="image/jpeg"/>
  <Override PartName="/ppt/media/image28.jpeg" ContentType="image/jpeg"/>
  <Override PartName="/ppt/media/image34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27.jpeg" ContentType="image/jpeg"/>
  <Override PartName="/ppt/media/image33.jpeg" ContentType="image/jpeg"/>
  <Override PartName="/ppt/media/image6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.jpeg" ContentType="image/jpeg"/>
  <Override PartName="/ppt/media/CHIMES.WAV" ContentType="audio/x-wav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2.jpeg" ContentType="image/jpeg"/>
  <Override PartName="/ppt/media/image13.jpeg" ContentType="image/jpeg"/>
  <Override PartName="/ppt/media/image14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9927C-08D7-4974-B095-F933690EB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58498-BB29-45A7-B246-E9C6EEB70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8E78D-8A39-43C1-99CD-2A548688F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ADB6C-3C07-47A5-AFBA-04C3FBE23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90D9F-9961-43CE-8BE0-94D9B6A6B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11AC6-76EE-4BF8-ADB9-10508D1CB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64098-446C-41BC-B99E-01CBC95C5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2D1A4-95CB-4721-9431-26D544433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BD6AC-40DC-4487-8608-CE9477C05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8FC6B-930C-41FE-956A-8D70846BE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AA2B9-38DB-428F-8088-EE1FCC28A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ED435-B000-4D97-88ED-A63621D87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BD75D-6D0E-4AFB-BEE7-CC53A0A73EA2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900igr.net/" TargetMode="External"/><Relationship Id="rId3" Type="http://schemas.openxmlformats.org/officeDocument/2006/relationships/audio" Target="../media/CHIMES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CHIMES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CHIMES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../media/CHIMES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CHIMES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HIMES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CHIMES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CHIMES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CHIMES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HIMES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audio" Target="../media/CHIMES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audio" Target="../media/CHIMES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audio" Target="../media/CHIMES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5.png"/><Relationship Id="rId3" Type="http://schemas.openxmlformats.org/officeDocument/2006/relationships/image" Target="../media/image26.jpeg"/><Relationship Id="rId4" Type="http://schemas.openxmlformats.org/officeDocument/2006/relationships/audio" Target="../media/CLAP.WAV"/><Relationship Id="rId5" Type="http://schemas.openxmlformats.org/officeDocument/2006/relationships/audio" Target="../media/CLAP.WAV"/><Relationship Id="rId6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5.png"/><Relationship Id="rId3" Type="http://schemas.openxmlformats.org/officeDocument/2006/relationships/image" Target="../media/image27.jpeg"/><Relationship Id="rId4" Type="http://schemas.openxmlformats.org/officeDocument/2006/relationships/audio" Target="../media/CLAP.WAV"/><Relationship Id="rId5" Type="http://schemas.openxmlformats.org/officeDocument/2006/relationships/audio" Target="../media/CLAP.WAV"/><Relationship Id="rId6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5.png"/><Relationship Id="rId3" Type="http://schemas.openxmlformats.org/officeDocument/2006/relationships/image" Target="../media/image28.jpeg"/><Relationship Id="rId4" Type="http://schemas.openxmlformats.org/officeDocument/2006/relationships/audio" Target="../media/CLAP.WAV"/><Relationship Id="rId5" Type="http://schemas.openxmlformats.org/officeDocument/2006/relationships/audio" Target="../media/CLAP.WAV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HIMES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5.png"/><Relationship Id="rId3" Type="http://schemas.openxmlformats.org/officeDocument/2006/relationships/image" Target="../media/image29.jpeg"/><Relationship Id="rId4" Type="http://schemas.openxmlformats.org/officeDocument/2006/relationships/audio" Target="../media/CLAP.WAV"/><Relationship Id="rId5" Type="http://schemas.openxmlformats.org/officeDocument/2006/relationships/audio" Target="../media/CLAP.WAV"/><Relationship Id="rId6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5.png"/><Relationship Id="rId3" Type="http://schemas.openxmlformats.org/officeDocument/2006/relationships/image" Target="../media/image30.jpeg"/><Relationship Id="rId4" Type="http://schemas.openxmlformats.org/officeDocument/2006/relationships/audio" Target="../media/CLAP.WAV"/><Relationship Id="rId5" Type="http://schemas.openxmlformats.org/officeDocument/2006/relationships/audio" Target="../media/CLAP.WAV"/><Relationship Id="rId6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5.png"/><Relationship Id="rId3" Type="http://schemas.openxmlformats.org/officeDocument/2006/relationships/image" Target="../media/image31.jpeg"/><Relationship Id="rId4" Type="http://schemas.openxmlformats.org/officeDocument/2006/relationships/audio" Target="../media/CLAP.WAV"/><Relationship Id="rId5" Type="http://schemas.openxmlformats.org/officeDocument/2006/relationships/audio" Target="../media/CLAP.WAV"/><Relationship Id="rId6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5.png"/><Relationship Id="rId3" Type="http://schemas.openxmlformats.org/officeDocument/2006/relationships/image" Target="../media/image32.jpeg"/><Relationship Id="rId4" Type="http://schemas.openxmlformats.org/officeDocument/2006/relationships/audio" Target="../media/CLAP.WAV"/><Relationship Id="rId5" Type="http://schemas.openxmlformats.org/officeDocument/2006/relationships/audio" Target="../media/CLAP.WAV"/><Relationship Id="rId6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5.png"/><Relationship Id="rId3" Type="http://schemas.openxmlformats.org/officeDocument/2006/relationships/image" Target="../media/image33.jpeg"/><Relationship Id="rId4" Type="http://schemas.openxmlformats.org/officeDocument/2006/relationships/audio" Target="../media/CLAP.WAV"/><Relationship Id="rId5" Type="http://schemas.openxmlformats.org/officeDocument/2006/relationships/audio" Target="../media/CLAP.WAV"/><Relationship Id="rId6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5.png"/><Relationship Id="rId3" Type="http://schemas.openxmlformats.org/officeDocument/2006/relationships/image" Target="../media/image34.jpeg"/><Relationship Id="rId4" Type="http://schemas.openxmlformats.org/officeDocument/2006/relationships/audio" Target="../media/CLAP.WAV"/><Relationship Id="rId5" Type="http://schemas.openxmlformats.org/officeDocument/2006/relationships/audio" Target="../media/CLAP.WAV"/><Relationship Id="rId6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5.png"/><Relationship Id="rId3" Type="http://schemas.openxmlformats.org/officeDocument/2006/relationships/image" Target="../media/image35.jpeg"/><Relationship Id="rId4" Type="http://schemas.openxmlformats.org/officeDocument/2006/relationships/audio" Target="../media/CLAP.WAV"/><Relationship Id="rId5" Type="http://schemas.openxmlformats.org/officeDocument/2006/relationships/audio" Target="../media/CLAP.WAV"/><Relationship Id="rId6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5.png"/><Relationship Id="rId3" Type="http://schemas.openxmlformats.org/officeDocument/2006/relationships/image" Target="../media/image36.jpeg"/><Relationship Id="rId4" Type="http://schemas.openxmlformats.org/officeDocument/2006/relationships/audio" Target="../media/CLAP.WAV"/><Relationship Id="rId5" Type="http://schemas.openxmlformats.org/officeDocument/2006/relationships/audio" Target="../media/CLAP.WAV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HIMES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HIMES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CHIMES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CHIMES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CHIMES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CHIMES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3"/>
          <p:cNvSpPr txBox="1"/>
          <p:nvPr/>
        </p:nvSpPr>
        <p:spPr>
          <a:xfrm>
            <a:off x="2819520" y="76320"/>
            <a:ext cx="3105000" cy="760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тюрморт</a:t>
            </a:r>
            <a:endParaRPr b="1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" name="Text Box 6"/>
          <p:cNvSpPr/>
          <p:nvPr/>
        </p:nvSpPr>
        <p:spPr>
          <a:xfrm>
            <a:off x="304920" y="5326200"/>
            <a:ext cx="38098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Times New Roman"/>
              </a:rPr>
              <a:t>А.Переда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Натюрморт с часами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Масло. 1652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Государственный музей изобразительных искусств имени А. С Пушкина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Text Box 7"/>
          <p:cNvSpPr/>
          <p:nvPr/>
        </p:nvSpPr>
        <p:spPr>
          <a:xfrm>
            <a:off x="5013360" y="1486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Text Box 9"/>
          <p:cNvSpPr/>
          <p:nvPr/>
        </p:nvSpPr>
        <p:spPr>
          <a:xfrm>
            <a:off x="5181480" y="988920"/>
            <a:ext cx="38102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аряду с бытовым жанром натюрморт долгое время считался второстепенным видом живописи, в котором невозможно выразить высокие общественные идеи, гражданские добродетели. Действительно многое из того, что свойственно произведениям исторического, батального и других жанров, натюрморту недоступно. Однако великие мастера доказали, что вещи могут характеризовать и социальное положение, и образ жизни их владельца, порождая, таким образом, различные ассоциации и социальные аналогии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5" name="Picture 11" descr="P:\naturmort\naturmort11.jpg"/>
          <p:cNvPicPr/>
          <p:nvPr/>
        </p:nvPicPr>
        <p:blipFill>
          <a:blip r:embed="rId1"/>
          <a:stretch/>
        </p:blipFill>
        <p:spPr>
          <a:xfrm>
            <a:off x="190440" y="1739880"/>
            <a:ext cx="4753080" cy="3365640"/>
          </a:xfrm>
          <a:prstGeom prst="rect">
            <a:avLst/>
          </a:prstGeom>
          <a:ln w="0">
            <a:noFill/>
          </a:ln>
        </p:spPr>
      </p:pic>
      <p:sp>
        <p:nvSpPr>
          <p:cNvPr id="46" name="Text Box 12"/>
          <p:cNvSpPr/>
          <p:nvPr/>
        </p:nvSpPr>
        <p:spPr>
          <a:xfrm>
            <a:off x="76320" y="0"/>
            <a:ext cx="274320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и разработке презентаци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были использованы следующие материалы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журнал Юный художник №2-90, статья “Натюрморт” Синюкова В., журнал Юный художник №4-90, статья “Как ставить натюрморт”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Ганжало Т.,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а также репродукции картин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Скругленный прямоугольник 9">
            <a:hlinkClick r:id="rId2"/>
          </p:cNvPr>
          <p:cNvSpPr/>
          <p:nvPr/>
        </p:nvSpPr>
        <p:spPr>
          <a:xfrm>
            <a:off x="3898800" y="6477120"/>
            <a:ext cx="134640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255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4"/>
          <p:cNvSpPr/>
          <p:nvPr/>
        </p:nvSpPr>
        <p:spPr>
          <a:xfrm>
            <a:off x="5013360" y="148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5486400" y="1717560"/>
            <a:ext cx="35053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аиболее распространенной разновидностью натюрморта является изображение предметов домашнего обихода. Этот тип натюрморта тесно связан с развитием бытового жанра, интерьера, пейзажа и ярко расцвел в западноевропейском искусстве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VII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еке. Каждая национальная художественная школа по-своему, самобытно решила эту проблему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WordArt 8"/>
          <p:cNvSpPr txBox="1"/>
          <p:nvPr/>
        </p:nvSpPr>
        <p:spPr>
          <a:xfrm>
            <a:off x="2819520" y="76320"/>
            <a:ext cx="31050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тюрморт</a:t>
            </a:r>
            <a:endParaRPr b="1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5" name="Picture 9" descr="P:\naturmort\naturmort7.jpg"/>
          <p:cNvPicPr/>
          <p:nvPr/>
        </p:nvPicPr>
        <p:blipFill>
          <a:blip r:embed="rId1"/>
          <a:stretch/>
        </p:blipFill>
        <p:spPr>
          <a:xfrm>
            <a:off x="495360" y="1738440"/>
            <a:ext cx="4762440" cy="3381120"/>
          </a:xfrm>
          <a:prstGeom prst="rect">
            <a:avLst/>
          </a:prstGeom>
          <a:ln w="0">
            <a:noFill/>
          </a:ln>
        </p:spPr>
      </p:pic>
      <p:sp>
        <p:nvSpPr>
          <p:cNvPr id="96" name="Text Box 10"/>
          <p:cNvSpPr/>
          <p:nvPr/>
        </p:nvSpPr>
        <p:spPr>
          <a:xfrm>
            <a:off x="304920" y="5337000"/>
            <a:ext cx="51814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Times New Roman"/>
              </a:rPr>
              <a:t>Жан Батист Симеон Шарден (1699-1779). Французская школа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Натюрморт с кувшином и медным котелком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Масло. 1728-1732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Лугано, собрание Тиссен-Борнемиса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6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4"/>
          <p:cNvSpPr/>
          <p:nvPr/>
        </p:nvSpPr>
        <p:spPr>
          <a:xfrm>
            <a:off x="1143000" y="5778360"/>
            <a:ext cx="22096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Times New Roman"/>
              </a:rPr>
              <a:t>Э.Мане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Розы в вазе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Масло. 1882-1883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Цюрих, частное собрание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Text Box 5"/>
          <p:cNvSpPr/>
          <p:nvPr/>
        </p:nvSpPr>
        <p:spPr>
          <a:xfrm>
            <a:off x="5013360" y="148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WordArt 8"/>
          <p:cNvSpPr txBox="1"/>
          <p:nvPr/>
        </p:nvSpPr>
        <p:spPr>
          <a:xfrm>
            <a:off x="2819520" y="76320"/>
            <a:ext cx="31050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тюрморт</a:t>
            </a:r>
            <a:endParaRPr b="1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00" name="Picture 9" descr="P:\naturmort\naturmort8.jpg"/>
          <p:cNvPicPr/>
          <p:nvPr/>
        </p:nvPicPr>
        <p:blipFill>
          <a:blip r:embed="rId1"/>
          <a:stretch/>
        </p:blipFill>
        <p:spPr>
          <a:xfrm>
            <a:off x="771480" y="1047600"/>
            <a:ext cx="3038400" cy="476280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10"/>
          <p:cNvSpPr/>
          <p:nvPr/>
        </p:nvSpPr>
        <p:spPr>
          <a:xfrm>
            <a:off x="4114800" y="1066680"/>
            <a:ext cx="484488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самом начале 17 века в результате Нидерландской буржуазной революции на территории Северных Нидерландов образовалась буржуазная Республика Соединенных провинций. Здесь сложилась новая культура в которой нашли отражение демократические идеалы голландского бюргерства, ставшего хозяином в собственной стране. В Голландии сформировалось искусство, правдиво отражавшее быт, нравы, природу родины. Его реалистические установки были последовательно выражены живописцем, поэтом и драматургом Гербрандом Бредеро: “Как художник, я следую правилу живописцев, которое гласит, что лучшим художником является тот, кто ближе всего подходит к жизни…что меня касается, то я изучаю только одну – книгу повседневной жизни”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8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2"/>
          <p:cNvSpPr/>
          <p:nvPr/>
        </p:nvSpPr>
        <p:spPr>
          <a:xfrm>
            <a:off x="5013360" y="148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5105520" y="1298520"/>
            <a:ext cx="380988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 Голландии продолжали существовать различные объединения, часто полувоенного, полурелигиозного характера,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ыгравшие важную роль в победе над испанским абсолютизмом. Их участники уже в 16 веке заказывали видным художникам групповые портреты, в которых желали видеть себя запечатленными в кругу своей корпорации. Особое место приобрели изображения торжественных встреч представителей стрелковых гильдий. В них господствовала атмосфера праздника тесной компании хорошо знающих и ценящих друг друга людей, собравшихся за столом, </a:t>
            </a:r>
            <a:r>
              <a:rPr b="0" lang="ru-RU" sz="1600" spc="-1" strike="noStrike">
                <a:solidFill>
                  <a:srgbClr val="ff0000"/>
                </a:solidFill>
                <a:latin typeface="Times New Roman"/>
              </a:rPr>
              <a:t>уставленным сосудами, бокалами, вазами с фруктами, овощами и прочей снедью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WordArt 4"/>
          <p:cNvSpPr txBox="1"/>
          <p:nvPr/>
        </p:nvSpPr>
        <p:spPr>
          <a:xfrm>
            <a:off x="2819520" y="76320"/>
            <a:ext cx="31050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тюрморт</a:t>
            </a:r>
            <a:endParaRPr b="1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05" name="Picture 6" descr="P:\naturmort\Geda.jpg"/>
          <p:cNvPicPr/>
          <p:nvPr/>
        </p:nvPicPr>
        <p:blipFill>
          <a:blip r:embed="rId1"/>
          <a:stretch/>
        </p:blipFill>
        <p:spPr>
          <a:xfrm>
            <a:off x="114480" y="1890720"/>
            <a:ext cx="4762440" cy="307656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7"/>
          <p:cNvSpPr/>
          <p:nvPr/>
        </p:nvSpPr>
        <p:spPr>
          <a:xfrm>
            <a:off x="609480" y="5337000"/>
            <a:ext cx="381024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Times New Roman"/>
              </a:rPr>
              <a:t>Виллем Клас Хеда (около 1594-около 1680) Голландская школа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Завтрак с ежевичным пирогом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Дерево,  масло. 1631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Дрезденская картинная галерея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9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3"/>
          <p:cNvSpPr/>
          <p:nvPr/>
        </p:nvSpPr>
        <p:spPr>
          <a:xfrm>
            <a:off x="8229600" y="1523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4800600" y="990720"/>
            <a:ext cx="38098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о временем эти предметы как бы вырезались из банкетного стола, превращаясь в “чистый” натюрморт. Однако и в таком виде предметы и явства, приготовленные к трапезе, долгое время сохраняли свой общественный характер: в их подборе, расстановке господствовала та же строгая дисциплина, что и в групповом портрете, сохранялась парадная торжественность общественного праздника, отсутствовал тот элемент случайности, интимности, который вносит в картину подлинная жизнь. Большой шаг вперед сделал Франс Халс, придавший как групповому портрету, так и заключенному в нем миру вещей подлинную естественность, раскрывший те особенности предметов, которые характеризуют самого человека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WordArt 6"/>
          <p:cNvSpPr txBox="1"/>
          <p:nvPr/>
        </p:nvSpPr>
        <p:spPr>
          <a:xfrm>
            <a:off x="2819520" y="76320"/>
            <a:ext cx="31050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тюрморт</a:t>
            </a:r>
            <a:endParaRPr b="1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10" name="Picture 7" descr="P:\naturmort\naturmort5.jpg"/>
          <p:cNvPicPr/>
          <p:nvPr/>
        </p:nvPicPr>
        <p:blipFill>
          <a:blip r:embed="rId1"/>
          <a:stretch/>
        </p:blipFill>
        <p:spPr>
          <a:xfrm>
            <a:off x="714240" y="1047600"/>
            <a:ext cx="3705480" cy="476280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8"/>
          <p:cNvSpPr/>
          <p:nvPr/>
        </p:nvSpPr>
        <p:spPr>
          <a:xfrm>
            <a:off x="762120" y="5838840"/>
            <a:ext cx="38098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Times New Roman"/>
              </a:rPr>
              <a:t>В. Рождественский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Азиатский чай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Масло. 1926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Государственный Русский музей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1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3"/>
          <p:cNvSpPr/>
          <p:nvPr/>
        </p:nvSpPr>
        <p:spPr>
          <a:xfrm>
            <a:off x="8229600" y="1523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5181480" y="990720"/>
            <a:ext cx="38102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Этот вид натюрморта, получивший название “завтраков”, приобрел наиболее совершенные и законченные черты в творчестве живописцев харлемской школы Питера Класа и Виллема Хеды. Они стали создателями национального натюрморта с Изображением накрытых столов, уставленных скромным набором предметов, типичных для семьи голландского бюргера 1630-1640-х годов. Интимность, простота и серьезность этих произведений отражают бытовой уклад, вкусы, симпатии и настроения первого поколения голландских буржуа, выросшего в свободной, независимо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WordArt 7"/>
          <p:cNvSpPr txBox="1"/>
          <p:nvPr/>
        </p:nvSpPr>
        <p:spPr>
          <a:xfrm>
            <a:off x="2819520" y="76320"/>
            <a:ext cx="31050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тюрморт</a:t>
            </a:r>
            <a:endParaRPr b="1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15" name="Picture 9" descr="P:\naturmort\heda1.jpg"/>
          <p:cNvPicPr/>
          <p:nvPr/>
        </p:nvPicPr>
        <p:blipFill>
          <a:blip r:embed="rId1"/>
          <a:stretch/>
        </p:blipFill>
        <p:spPr>
          <a:xfrm>
            <a:off x="457200" y="1047600"/>
            <a:ext cx="3886200" cy="476280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10"/>
          <p:cNvSpPr/>
          <p:nvPr/>
        </p:nvSpPr>
        <p:spPr>
          <a:xfrm>
            <a:off x="76320" y="5791320"/>
            <a:ext cx="62481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Times New Roman"/>
              </a:rPr>
              <a:t>Виллем Клас Хеда. 1594 - между 1680 и 1682. Голландская школа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Ветчина и серебряная посуда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Дерево,  масло. 1649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Государственный музей изобразительных искусств имени А. С Пушкина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3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3"/>
          <p:cNvSpPr/>
          <p:nvPr/>
        </p:nvSpPr>
        <p:spPr>
          <a:xfrm>
            <a:off x="8229600" y="1523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4952880" y="990720"/>
            <a:ext cx="4038840" cy="56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ойдет время, и место скромных “завтраков” Класа и Хеды займут богатые и эффектные “десерты” Адриана ван Бейерена и Виллема Кальфа, отразившие новый этап в развитии нидерландского общества, утратившего свои революционные идеалы и отошедшего от скромного и трезвого жизненного уклада своих отцов. Драгоценные кубки и редкостные плоды, сложные и разнообразные композиции, изысканные красочные сочетания, виртуозное мастерство в передаче каждого предмета – вот какие качества отныне наиболее ценятся разбогатевшими заказчиками-буржуа. Но и в этих роскошных натюрмортах поражает любовное внимание к особенностям каждого предмета, умение тонко сопоставить материал и фактуру, быть то бархатистая поверхность персика и матовая пыльца виноградных гроздьев, прозрачный блестящий хрусталь и мягко светящиеся перламутровые раковины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WordArt 7"/>
          <p:cNvSpPr txBox="1"/>
          <p:nvPr/>
        </p:nvSpPr>
        <p:spPr>
          <a:xfrm>
            <a:off x="2819520" y="76320"/>
            <a:ext cx="31050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тюрморт</a:t>
            </a:r>
            <a:endParaRPr b="1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20" name="Picture 9" descr="P:\naturmort\beiren.jpg"/>
          <p:cNvPicPr/>
          <p:nvPr/>
        </p:nvPicPr>
        <p:blipFill>
          <a:blip r:embed="rId1"/>
          <a:stretch/>
        </p:blipFill>
        <p:spPr>
          <a:xfrm>
            <a:off x="114480" y="1752480"/>
            <a:ext cx="4762440" cy="335304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11"/>
          <p:cNvSpPr/>
          <p:nvPr/>
        </p:nvSpPr>
        <p:spPr>
          <a:xfrm>
            <a:off x="304920" y="5337000"/>
            <a:ext cx="38098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Times New Roman"/>
              </a:rPr>
              <a:t>Абрахам ван Бейерен (1620/1621 - 1690)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Натюрморт с крабом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Дерево, масло. 1655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Старая пинакотека. Мюнхен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5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2"/>
          <p:cNvSpPr/>
          <p:nvPr/>
        </p:nvSpPr>
        <p:spPr>
          <a:xfrm>
            <a:off x="8229600" y="1523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WordArt 4"/>
          <p:cNvSpPr txBox="1"/>
          <p:nvPr/>
        </p:nvSpPr>
        <p:spPr>
          <a:xfrm>
            <a:off x="2819520" y="76320"/>
            <a:ext cx="31050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тюрморт</a:t>
            </a:r>
            <a:endParaRPr b="1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24" name="Picture 6" descr="P:\naturmort\klas.jpg"/>
          <p:cNvPicPr/>
          <p:nvPr/>
        </p:nvPicPr>
        <p:blipFill>
          <a:blip r:embed="rId1"/>
          <a:stretch/>
        </p:blipFill>
        <p:spPr>
          <a:xfrm>
            <a:off x="76320" y="1895400"/>
            <a:ext cx="4762440" cy="306720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7"/>
          <p:cNvSpPr/>
          <p:nvPr/>
        </p:nvSpPr>
        <p:spPr>
          <a:xfrm>
            <a:off x="304920" y="5337000"/>
            <a:ext cx="38098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Times New Roman"/>
              </a:rPr>
              <a:t>Питер Клас (1597/98-1661) Голландская школа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Завтрак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Дерево,  масло. 1620-е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Государственный Эрмитаж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Text Box 8"/>
          <p:cNvSpPr/>
          <p:nvPr/>
        </p:nvSpPr>
        <p:spPr>
          <a:xfrm>
            <a:off x="5029200" y="1022400"/>
            <a:ext cx="396252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езким контрастом к этим небольшим полотнам выглядят картины фламандских художников того же времени. Это огромные декоративные натюрморты с изображением сочных и спелых плодов, фруктов, битой птицы, кабаньих и оленьих голов, разделенных мясных туш, разнообразных рыб, от самых обычных до редких и экзотических пород. Все, чем богата плодородная земля Фландрии, чем изобилует ее леса и поля, что попадает в сети фламандских рыбаков, горами громоздится на столах и витринах, свисает и падает на тяжелые дубовые прилавки. Рамам картин становится тесно от неиссякаемого изобилия даров природы. Авторам этих громадных картин был Франс Снейдерс, а сами полотна составляют оригинальные и своеобразный тип натюрморта, получивший наименование “лавки”.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6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3"/>
          <p:cNvSpPr/>
          <p:nvPr/>
        </p:nvSpPr>
        <p:spPr>
          <a:xfrm>
            <a:off x="8229600" y="1523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5029200" y="1305000"/>
            <a:ext cx="39625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 полным кипучей жизни произведениям меньше всего подходит традиционное определение натюрморта как “мертвой натуры”. Настолько они нарядны, праздничны, ликующи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Центром крепко сбитых композиций “лавок” Снейдерса является массивный прилавок или стол, на котором размещены груды битой дичи, фруктов, цветов, овощей. Обычно они выдержаны в общем оливковом тоне, из которого выделяются пятна синего, белого и красного (туши животных, омары, ягоды, одеяние лавочника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WordArt 7"/>
          <p:cNvSpPr txBox="1"/>
          <p:nvPr/>
        </p:nvSpPr>
        <p:spPr>
          <a:xfrm>
            <a:off x="2819520" y="76320"/>
            <a:ext cx="31050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тюрморт</a:t>
            </a:r>
            <a:endParaRPr b="1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30" name="Picture 9" descr="P:\naturmort\sneiders.jpg"/>
          <p:cNvPicPr/>
          <p:nvPr/>
        </p:nvPicPr>
        <p:blipFill>
          <a:blip r:embed="rId1"/>
          <a:stretch/>
        </p:blipFill>
        <p:spPr>
          <a:xfrm>
            <a:off x="114480" y="1843200"/>
            <a:ext cx="4762440" cy="317160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10"/>
          <p:cNvSpPr/>
          <p:nvPr/>
        </p:nvSpPr>
        <p:spPr>
          <a:xfrm>
            <a:off x="304920" y="5337000"/>
            <a:ext cx="579096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Times New Roman"/>
              </a:rPr>
              <a:t>Франс Снейдерс. (1579-1657) Фламандская школа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Натюрморт с лебедем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Холст, масло. Около 1615-1620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Государственный музей изобразительных искусств имени А. С Пушкина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8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3"/>
          <p:cNvSpPr/>
          <p:nvPr/>
        </p:nvSpPr>
        <p:spPr>
          <a:xfrm>
            <a:off x="8229600" y="1523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4952880" y="1006560"/>
            <a:ext cx="403884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нейдерс с любовью и мастерством передает цвет, форму, фактуру предметов, объединяя их в роскошные, декоративно-целостные циклы картин, ранее украшавшие дворцы европейской знати. Он охотно вводит фигуры и полуфигуры людей, животных, иногда помещает небольшие жанровые сценки, например, собаку, бросающуюся на кошку; обезьяну, крадущую фрукты, беседующих лавочницу и покупательницу. Эти сцены имели скрытый аллегорический смысл, хорошо понятный современникам,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чаще всего указывали на людские пороки. Обычно в натюрмортах Снейдерса человеческие фигуры теряются среди изобилия земных даров. Его произведения близки к бытовому жанру, но часто сюжетное начало играет в них второстепенную роль. Цель художника создать красочное пиршество из плодов родной земли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WordArt 7"/>
          <p:cNvSpPr txBox="1"/>
          <p:nvPr/>
        </p:nvSpPr>
        <p:spPr>
          <a:xfrm>
            <a:off x="2819520" y="76320"/>
            <a:ext cx="31050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тюрморт</a:t>
            </a:r>
            <a:endParaRPr b="1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35" name="Picture 9" descr="P:\naturmort\sneiders.jpg"/>
          <p:cNvPicPr/>
          <p:nvPr/>
        </p:nvPicPr>
        <p:blipFill>
          <a:blip r:embed="rId1"/>
          <a:stretch/>
        </p:blipFill>
        <p:spPr>
          <a:xfrm>
            <a:off x="114480" y="1843200"/>
            <a:ext cx="4762440" cy="317160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10"/>
          <p:cNvSpPr/>
          <p:nvPr/>
        </p:nvSpPr>
        <p:spPr>
          <a:xfrm>
            <a:off x="76320" y="5337000"/>
            <a:ext cx="44956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Times New Roman"/>
              </a:rPr>
              <a:t>Франс Снейдерс. (1579-1657) Фламандская школа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Натюрморт с лебедем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Холст, масло. Около 1615-1620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Государственный музей изобразительных искусств имени А. С Пушкина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9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9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0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3"/>
          <p:cNvSpPr/>
          <p:nvPr/>
        </p:nvSpPr>
        <p:spPr>
          <a:xfrm>
            <a:off x="8229600" y="1523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Text Box 4"/>
          <p:cNvSpPr/>
          <p:nvPr/>
        </p:nvSpPr>
        <p:spPr>
          <a:xfrm>
            <a:off x="5181480" y="1905120"/>
            <a:ext cx="38102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Художественная доктрина классицизма отнесла натюрморт к числу “низменных жанров,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днако именно в 18 веке появляются великолепные полотна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Ж. Б. Шардена, оживляющего мир “мертвой натуры”. С развитием академической системы образования возникает учебный, или постановочный, натюрморт, ставший одним из обязательных элементов обучения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WordArt 6"/>
          <p:cNvSpPr txBox="1"/>
          <p:nvPr/>
        </p:nvSpPr>
        <p:spPr>
          <a:xfrm>
            <a:off x="2819520" y="76320"/>
            <a:ext cx="31050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тюрморт</a:t>
            </a:r>
            <a:endParaRPr b="1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40" name="Picture 7" descr="P:\naturmort\sharden1.jpg"/>
          <p:cNvPicPr/>
          <p:nvPr/>
        </p:nvPicPr>
        <p:blipFill>
          <a:blip r:embed="rId1"/>
          <a:stretch/>
        </p:blipFill>
        <p:spPr>
          <a:xfrm>
            <a:off x="76320" y="2314440"/>
            <a:ext cx="4762440" cy="222912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8"/>
          <p:cNvSpPr/>
          <p:nvPr/>
        </p:nvSpPr>
        <p:spPr>
          <a:xfrm>
            <a:off x="304920" y="5337000"/>
            <a:ext cx="5181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Times New Roman"/>
              </a:rPr>
              <a:t>Жан Батист Симеон Шарден (1699-1779). Французская школа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Натюрморт (Атрибуты искусств)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Холст, масло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0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1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1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2"/>
          <p:cNvSpPr txBox="1"/>
          <p:nvPr/>
        </p:nvSpPr>
        <p:spPr>
          <a:xfrm>
            <a:off x="2819520" y="76320"/>
            <a:ext cx="31050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тюрморт</a:t>
            </a:r>
            <a:endParaRPr b="1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304920" y="5337000"/>
            <a:ext cx="38098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Times New Roman"/>
              </a:rPr>
              <a:t>Абрахам ван Бейерен (1620/1621 - 1690)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Натюрморт с крабом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Дерево, масло. 1655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Старая пинакотека. Мюнхен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5013360" y="148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1" name="Picture 7" descr="P:\naturmort\beiren.jpg"/>
          <p:cNvPicPr/>
          <p:nvPr/>
        </p:nvPicPr>
        <p:blipFill>
          <a:blip r:embed="rId1"/>
          <a:stretch/>
        </p:blipFill>
        <p:spPr>
          <a:xfrm>
            <a:off x="76320" y="1752480"/>
            <a:ext cx="4762440" cy="3353040"/>
          </a:xfrm>
          <a:prstGeom prst="rect">
            <a:avLst/>
          </a:prstGeom>
          <a:ln w="0">
            <a:noFill/>
          </a:ln>
        </p:spPr>
      </p:pic>
      <p:sp>
        <p:nvSpPr>
          <p:cNvPr id="52" name="Text Box 10"/>
          <p:cNvSpPr/>
          <p:nvPr/>
        </p:nvSpPr>
        <p:spPr>
          <a:xfrm>
            <a:off x="5334120" y="1625760"/>
            <a:ext cx="36576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з объектов “мертвой природы” (перевод французского словосочетания натюрморт —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ature mort)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едметы, согретые живым человеческим чувством, преображаются под кистью художника, начинают жить собственной неповторимой “тихой жизнью” (таков буквальный и несравненно более точный в определении натюрморта перевод голландского термина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illeven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, немецкого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illeben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, английского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ill life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3"/>
          <p:cNvSpPr/>
          <p:nvPr/>
        </p:nvSpPr>
        <p:spPr>
          <a:xfrm>
            <a:off x="5013360" y="148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Text Box 4"/>
          <p:cNvSpPr/>
          <p:nvPr/>
        </p:nvSpPr>
        <p:spPr>
          <a:xfrm>
            <a:off x="5181480" y="1274760"/>
            <a:ext cx="381024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нтерес к натюрморту значительно усиливается во второй половине прошлого века. Импрессионисты во Франции ставят акцент на живописном восприятии мира вещей, решают проблемы свето-цветовых отношений,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ередко трактуют натюрморт как своеобразное декоративное панно. Постимпрессионисты разрабатывают сложные проблемы композиционного и цветового решения картины, выявляют материальную вещественность мир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WordArt 8"/>
          <p:cNvSpPr txBox="1"/>
          <p:nvPr/>
        </p:nvSpPr>
        <p:spPr>
          <a:xfrm>
            <a:off x="2819520" y="76320"/>
            <a:ext cx="31050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тюрморт</a:t>
            </a:r>
            <a:endParaRPr b="1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5" name="Text Box 13"/>
          <p:cNvSpPr/>
          <p:nvPr/>
        </p:nvSpPr>
        <p:spPr>
          <a:xfrm>
            <a:off x="1676520" y="5854680"/>
            <a:ext cx="28954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Times New Roman"/>
              </a:rPr>
              <a:t>Пабло Пикассо. 1881-197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Зеленая миска и черная бутылка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Холст, масло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Государственный Эрмитаж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6" name="Picture 16" descr="P:\naturmort\picasso.jpg"/>
          <p:cNvPicPr/>
          <p:nvPr/>
        </p:nvPicPr>
        <p:blipFill>
          <a:blip r:embed="rId1"/>
          <a:stretch/>
        </p:blipFill>
        <p:spPr>
          <a:xfrm>
            <a:off x="800280" y="1066680"/>
            <a:ext cx="3695400" cy="47628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25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30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3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2"/>
          <p:cNvSpPr/>
          <p:nvPr/>
        </p:nvSpPr>
        <p:spPr>
          <a:xfrm>
            <a:off x="5013360" y="148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Text Box 3"/>
          <p:cNvSpPr/>
          <p:nvPr/>
        </p:nvSpPr>
        <p:spPr>
          <a:xfrm>
            <a:off x="5181480" y="990720"/>
            <a:ext cx="38102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 начала 20 века натюрморт становится своего рода творческой лабораторией живописи. Мастера фовизма идут по пути обостренного выявления эмоциональных и декоративно-экспрессивных возможностей цвета и фактуры, в то время как представители кубизма утверждают новые способы передачи пространства и предметов: конструируют объемы. На плоскости, расчленяют формы на простые геометрические тела, воспринятые с точки зрения, применяют суровые, почти монохромные тона, а затем вводят в картины коллаж – присыпки, куски газет и другие материалы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WordArt 4"/>
          <p:cNvSpPr txBox="1"/>
          <p:nvPr/>
        </p:nvSpPr>
        <p:spPr>
          <a:xfrm>
            <a:off x="2819520" y="76320"/>
            <a:ext cx="31050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тюрморт</a:t>
            </a:r>
            <a:endParaRPr b="1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0" name="Text Box 7"/>
          <p:cNvSpPr/>
          <p:nvPr/>
        </p:nvSpPr>
        <p:spPr>
          <a:xfrm>
            <a:off x="1295280" y="5337000"/>
            <a:ext cx="1524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Times New Roman"/>
              </a:rPr>
              <a:t>Ф. Леже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Натюрморт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Масло. 1927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1" name="Picture 8" descr="P:\naturmort\naturmort9.jpg"/>
          <p:cNvPicPr/>
          <p:nvPr/>
        </p:nvPicPr>
        <p:blipFill>
          <a:blip r:embed="rId1"/>
          <a:stretch/>
        </p:blipFill>
        <p:spPr>
          <a:xfrm>
            <a:off x="76320" y="1562040"/>
            <a:ext cx="4762440" cy="3733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4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5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2"/>
          <p:cNvSpPr/>
          <p:nvPr/>
        </p:nvSpPr>
        <p:spPr>
          <a:xfrm>
            <a:off x="5013360" y="148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Text Box 3"/>
          <p:cNvSpPr/>
          <p:nvPr/>
        </p:nvSpPr>
        <p:spPr>
          <a:xfrm>
            <a:off x="5181480" y="1905120"/>
            <a:ext cx="38102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а начало 20 века приходится и расцвет русского натюрморта. К. Коровин и мастера объединения (Бубновый валет) создают мажорные, сочные по цвету произведения, воспевающие полнокровную красоту бытия. Поэтичные работы исполняют И.Грабарь, художники (Мира искусства), тонкие декоративные мастера (Голубой розы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WordArt 4"/>
          <p:cNvSpPr txBox="1"/>
          <p:nvPr/>
        </p:nvSpPr>
        <p:spPr>
          <a:xfrm>
            <a:off x="2819520" y="76320"/>
            <a:ext cx="31050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тюрморт</a:t>
            </a:r>
            <a:endParaRPr b="1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55" name="Picture 5" descr="P:\naturmort\naturmort6.jpg"/>
          <p:cNvPicPr/>
          <p:nvPr/>
        </p:nvPicPr>
        <p:blipFill>
          <a:blip r:embed="rId1"/>
          <a:stretch/>
        </p:blipFill>
        <p:spPr>
          <a:xfrm>
            <a:off x="114480" y="2209680"/>
            <a:ext cx="4762440" cy="243864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6"/>
          <p:cNvSpPr/>
          <p:nvPr/>
        </p:nvSpPr>
        <p:spPr>
          <a:xfrm>
            <a:off x="2133720" y="5337000"/>
            <a:ext cx="1828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Times New Roman"/>
              </a:rPr>
              <a:t>Ю. Пименов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Дальняя дорога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Масло. 1959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59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6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2"/>
          <p:cNvSpPr/>
          <p:nvPr/>
        </p:nvSpPr>
        <p:spPr>
          <a:xfrm>
            <a:off x="5013360" y="148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Text Box 3"/>
          <p:cNvSpPr/>
          <p:nvPr/>
        </p:nvSpPr>
        <p:spPr>
          <a:xfrm>
            <a:off x="5029200" y="1473120"/>
            <a:ext cx="38098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Эти традиции были продолжены в советском искусстве 20-30-х годов. Красочные, воссоздающие богатство и многообразие предметного мира работы исполнили и юти годы П.Кончаловкий, А.Куприн, И.Машков, А.Лентулов,М. Сарьян, А.Осмеркин, А.Герасимов. Одновременно были продолжены поиски тонкой колористической гармонии, поэтизации мира вещей (В.Лебедев, Н.Тырса), эксперименты в области цвета и фактуры (Д.Штеренберг, Н.Альтман)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WordArt 4"/>
          <p:cNvSpPr txBox="1"/>
          <p:nvPr/>
        </p:nvSpPr>
        <p:spPr>
          <a:xfrm>
            <a:off x="2819520" y="76320"/>
            <a:ext cx="31050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тюрморт</a:t>
            </a:r>
            <a:endParaRPr b="1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0" name="Text Box 6"/>
          <p:cNvSpPr/>
          <p:nvPr/>
        </p:nvSpPr>
        <p:spPr>
          <a:xfrm>
            <a:off x="1676520" y="582300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Times New Roman"/>
              </a:rPr>
              <a:t>Н. Ерышев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Кувшины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Масло. 1979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1" name="Picture 7" descr="P:\naturmort\naturmort4.jpg"/>
          <p:cNvPicPr/>
          <p:nvPr/>
        </p:nvPicPr>
        <p:blipFill>
          <a:blip r:embed="rId1"/>
          <a:stretch/>
        </p:blipFill>
        <p:spPr>
          <a:xfrm>
            <a:off x="866880" y="1047600"/>
            <a:ext cx="3781440" cy="47628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7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81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8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1026"/>
          <p:cNvSpPr/>
          <p:nvPr/>
        </p:nvSpPr>
        <p:spPr>
          <a:xfrm>
            <a:off x="5013360" y="148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Text Box 1027"/>
          <p:cNvSpPr/>
          <p:nvPr/>
        </p:nvSpPr>
        <p:spPr>
          <a:xfrm>
            <a:off x="5181480" y="1473120"/>
            <a:ext cx="38102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воеобразные по манере, отражающие существенные особенности современной эпохи натюрморты были созданы и 40-50 годах П.Кузнецовым, Ю Пименовым. В 60-80-х годах тяготение к повышенной предметности изображения, стремление к эстетизации окружающего человека мира вещей обусловили интерес к натюрморту многих советских художников (В.Стожаров, А.Никич, Т.Нариманбеков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WordArt 1028"/>
          <p:cNvSpPr txBox="1"/>
          <p:nvPr/>
        </p:nvSpPr>
        <p:spPr>
          <a:xfrm>
            <a:off x="2819520" y="76320"/>
            <a:ext cx="31050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тюрморт</a:t>
            </a:r>
            <a:endParaRPr b="1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5" name="Text Box 1029"/>
          <p:cNvSpPr/>
          <p:nvPr/>
        </p:nvSpPr>
        <p:spPr>
          <a:xfrm>
            <a:off x="2133720" y="5823000"/>
            <a:ext cx="3809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Times New Roman"/>
              </a:rPr>
              <a:t>Т. Салахов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Натюрморт с венским стулом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Масло. 1976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6" name="Picture 1031" descr="P:\naturmort\naturmort3.jpg"/>
          <p:cNvPicPr/>
          <p:nvPr/>
        </p:nvPicPr>
        <p:blipFill>
          <a:blip r:embed="rId1"/>
          <a:stretch/>
        </p:blipFill>
        <p:spPr>
          <a:xfrm>
            <a:off x="1533600" y="1047600"/>
            <a:ext cx="3114720" cy="47628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9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9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03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2"/>
          <p:cNvSpPr/>
          <p:nvPr/>
        </p:nvSpPr>
        <p:spPr>
          <a:xfrm>
            <a:off x="5013360" y="148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5181480" y="2084400"/>
            <a:ext cx="38102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зарубежном натюрморте середины и второй половины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X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века выделяются работы итальянского живописца Д.Моранди, отличающиеся мягким созерцательным настроением, ясными композиционными построениями, блеклой цветовой гаммой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WordArt 4"/>
          <p:cNvSpPr txBox="1"/>
          <p:nvPr/>
        </p:nvSpPr>
        <p:spPr>
          <a:xfrm>
            <a:off x="2819520" y="76320"/>
            <a:ext cx="31050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тюрморт</a:t>
            </a:r>
            <a:endParaRPr b="1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0" name="Text Box 5"/>
          <p:cNvSpPr/>
          <p:nvPr/>
        </p:nvSpPr>
        <p:spPr>
          <a:xfrm>
            <a:off x="1066680" y="5381640"/>
            <a:ext cx="38102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Times New Roman"/>
              </a:rPr>
              <a:t>М. А. Асламазян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Армянский натюрморт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Холст, масло. 1955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Государственная Третьяковская галерея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1" name="Picture 7" descr="P:\naturmort\aslamasyn.jpg"/>
          <p:cNvPicPr/>
          <p:nvPr/>
        </p:nvPicPr>
        <p:blipFill>
          <a:blip r:embed="rId1"/>
          <a:stretch/>
        </p:blipFill>
        <p:spPr>
          <a:xfrm>
            <a:off x="76320" y="1538280"/>
            <a:ext cx="4762440" cy="37814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1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15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20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2"/>
          <p:cNvSpPr/>
          <p:nvPr/>
        </p:nvSpPr>
        <p:spPr>
          <a:xfrm>
            <a:off x="5013360" y="148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Text Box 3"/>
          <p:cNvSpPr/>
          <p:nvPr/>
        </p:nvSpPr>
        <p:spPr>
          <a:xfrm>
            <a:off x="5181480" y="990720"/>
            <a:ext cx="38102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оциальные тенденции нашли отражение в экспрессивных, скупых по подбору предметов произведениях мексиканцев Д.Риверы, Д.Сикейроса, итальянца Гуттузо. Весьма своеобразны натюрморты представителей поп-арта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дного из направлений в европейском и американском искусстве, провозгласивших после засилья абстракционизма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(возвращение к реальности)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аботы поп-артистов воспроизводят предметы домашнего обихода, упаковку товаров, детали машин и рассчитаны на многообразные ассоциации у зрителей, иногда с нотами иронии и неприятия лозунгов "потребления ради потребления"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WordArt 4"/>
          <p:cNvSpPr txBox="1"/>
          <p:nvPr/>
        </p:nvSpPr>
        <p:spPr>
          <a:xfrm>
            <a:off x="2819520" y="76320"/>
            <a:ext cx="31050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тюрморт</a:t>
            </a:r>
            <a:endParaRPr b="1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5" name="Text Box 5"/>
          <p:cNvSpPr/>
          <p:nvPr/>
        </p:nvSpPr>
        <p:spPr>
          <a:xfrm>
            <a:off x="304920" y="5410080"/>
            <a:ext cx="38098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Times New Roman"/>
              </a:rPr>
              <a:t>П. П. Кончаловский (1876-1956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Натюрморт. Апельсины и мятая бумага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Холст, масло. 1946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Государственная Третьяковская галерея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6" name="Picture 7" descr="P:\naturmort\konchalovsky.jpg"/>
          <p:cNvPicPr/>
          <p:nvPr/>
        </p:nvPicPr>
        <p:blipFill>
          <a:blip r:embed="rId1"/>
          <a:stretch/>
        </p:blipFill>
        <p:spPr>
          <a:xfrm>
            <a:off x="76320" y="1733400"/>
            <a:ext cx="4762440" cy="33912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27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32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37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 Box 2"/>
          <p:cNvSpPr/>
          <p:nvPr/>
        </p:nvSpPr>
        <p:spPr>
          <a:xfrm>
            <a:off x="8229600" y="1523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Text Box 3"/>
          <p:cNvSpPr/>
          <p:nvPr/>
        </p:nvSpPr>
        <p:spPr>
          <a:xfrm>
            <a:off x="5105520" y="2822400"/>
            <a:ext cx="3809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лифанова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Екатерина Дмитриевна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иректор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мбинской основной общеобразовательной школ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WordArt 4"/>
          <p:cNvSpPr txBox="1"/>
          <p:nvPr/>
        </p:nvSpPr>
        <p:spPr>
          <a:xfrm>
            <a:off x="2819520" y="76320"/>
            <a:ext cx="31050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Авторы</a:t>
            </a:r>
            <a:endParaRPr b="0" lang="en-US" sz="4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80" name="Picture 5" descr="P:\naturmort\Alifanova.jpg"/>
          <p:cNvPicPr/>
          <p:nvPr/>
        </p:nvPicPr>
        <p:blipFill>
          <a:blip r:embed="rId3"/>
          <a:stretch/>
        </p:blipFill>
        <p:spPr>
          <a:xfrm>
            <a:off x="114480" y="1643040"/>
            <a:ext cx="4762440" cy="357192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6"/>
          <p:cNvSpPr/>
          <p:nvPr/>
        </p:nvSpPr>
        <p:spPr>
          <a:xfrm>
            <a:off x="6400800" y="0"/>
            <a:ext cx="274320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и разработке презентаци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были использованы следующие материалы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журнал Юный художник №2-90, статья “Натюрморт” Синюкова В., журнал Юный художник №4-90, статья “Как ставить натюрморт”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Ганжало Т.,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а также репродукции картин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4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 Box 2"/>
          <p:cNvSpPr/>
          <p:nvPr/>
        </p:nvSpPr>
        <p:spPr>
          <a:xfrm>
            <a:off x="8229600" y="1523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Text Box 3"/>
          <p:cNvSpPr/>
          <p:nvPr/>
        </p:nvSpPr>
        <p:spPr>
          <a:xfrm>
            <a:off x="5105520" y="2822400"/>
            <a:ext cx="3809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рхипов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ергей Николаевич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иректор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итковской средней общеобразовательной школ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WordArt 4"/>
          <p:cNvSpPr txBox="1"/>
          <p:nvPr/>
        </p:nvSpPr>
        <p:spPr>
          <a:xfrm>
            <a:off x="2819520" y="76320"/>
            <a:ext cx="31050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Авторы</a:t>
            </a:r>
            <a:endParaRPr b="0" lang="en-US" sz="4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85" name="Picture 6" descr="P:\naturmort\Arhipow.jpg"/>
          <p:cNvPicPr/>
          <p:nvPr/>
        </p:nvPicPr>
        <p:blipFill>
          <a:blip r:embed="rId3"/>
          <a:stretch/>
        </p:blipFill>
        <p:spPr>
          <a:xfrm>
            <a:off x="114480" y="1643040"/>
            <a:ext cx="4762440" cy="3571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 Box 2"/>
          <p:cNvSpPr/>
          <p:nvPr/>
        </p:nvSpPr>
        <p:spPr>
          <a:xfrm>
            <a:off x="8229600" y="1523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Text Box 3"/>
          <p:cNvSpPr/>
          <p:nvPr/>
        </p:nvSpPr>
        <p:spPr>
          <a:xfrm>
            <a:off x="5105520" y="2822400"/>
            <a:ext cx="3809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аженова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талья Юрьевна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иректор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ткрытой (сменной) школ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WordArt 4"/>
          <p:cNvSpPr txBox="1"/>
          <p:nvPr/>
        </p:nvSpPr>
        <p:spPr>
          <a:xfrm>
            <a:off x="2819520" y="76320"/>
            <a:ext cx="31050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Авторы</a:t>
            </a:r>
            <a:endParaRPr b="0" lang="en-US" sz="4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89" name="Picture 6" descr="P:\naturmort\Bazhenowa..jpg"/>
          <p:cNvPicPr/>
          <p:nvPr/>
        </p:nvPicPr>
        <p:blipFill>
          <a:blip r:embed="rId3"/>
          <a:stretch/>
        </p:blipFill>
        <p:spPr>
          <a:xfrm>
            <a:off x="114480" y="1643040"/>
            <a:ext cx="4762440" cy="3571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5"/>
          <p:cNvSpPr/>
          <p:nvPr/>
        </p:nvSpPr>
        <p:spPr>
          <a:xfrm>
            <a:off x="5013360" y="148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5334120" y="2328840"/>
            <a:ext cx="36576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едаром еще в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VIII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еке великий французский просветитель и художественный критик Дени Дидро для обозначения этого жанра пользовался терминами “неодушевленная натура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atyre inanmee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WordArt 9"/>
          <p:cNvSpPr txBox="1"/>
          <p:nvPr/>
        </p:nvSpPr>
        <p:spPr>
          <a:xfrm>
            <a:off x="2819520" y="76320"/>
            <a:ext cx="31050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тюрморт</a:t>
            </a:r>
            <a:endParaRPr b="1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6" name="Picture 10" descr="P:\naturmort\naturmort10.jpg"/>
          <p:cNvPicPr/>
          <p:nvPr/>
        </p:nvPicPr>
        <p:blipFill>
          <a:blip r:embed="rId1"/>
          <a:stretch/>
        </p:blipFill>
        <p:spPr>
          <a:xfrm>
            <a:off x="114480" y="1762200"/>
            <a:ext cx="4762440" cy="3333600"/>
          </a:xfrm>
          <a:prstGeom prst="rect">
            <a:avLst/>
          </a:prstGeom>
          <a:ln w="0">
            <a:noFill/>
          </a:ln>
        </p:spPr>
      </p:pic>
      <p:sp>
        <p:nvSpPr>
          <p:cNvPr id="57" name="Text Box 11"/>
          <p:cNvSpPr/>
          <p:nvPr/>
        </p:nvSpPr>
        <p:spPr>
          <a:xfrm>
            <a:off x="304920" y="5337000"/>
            <a:ext cx="38098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Times New Roman"/>
              </a:rPr>
              <a:t>Питер Клас (1597/98-1661) Голландская школа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Завтрак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Масло. 1642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Государственный музей изобразительных искусств имени А. С Пушкина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2"/>
          <p:cNvSpPr/>
          <p:nvPr/>
        </p:nvSpPr>
        <p:spPr>
          <a:xfrm>
            <a:off x="8229600" y="1523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Text Box 3"/>
          <p:cNvSpPr/>
          <p:nvPr/>
        </p:nvSpPr>
        <p:spPr>
          <a:xfrm>
            <a:off x="4876920" y="2438280"/>
            <a:ext cx="4038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ордокина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алина Григорьевна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иректор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оволуговской основной общеобразовательной школ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WordArt 4"/>
          <p:cNvSpPr txBox="1"/>
          <p:nvPr/>
        </p:nvSpPr>
        <p:spPr>
          <a:xfrm>
            <a:off x="2819520" y="76320"/>
            <a:ext cx="31050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Авторы</a:t>
            </a:r>
            <a:endParaRPr b="0" lang="en-US" sz="4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93" name="Picture 6" descr="P:\naturmort\Bordokina.jpg"/>
          <p:cNvPicPr/>
          <p:nvPr/>
        </p:nvPicPr>
        <p:blipFill>
          <a:blip r:embed="rId3"/>
          <a:stretch/>
        </p:blipFill>
        <p:spPr>
          <a:xfrm>
            <a:off x="114480" y="1643040"/>
            <a:ext cx="4762440" cy="3571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ext Box 2"/>
          <p:cNvSpPr/>
          <p:nvPr/>
        </p:nvSpPr>
        <p:spPr>
          <a:xfrm>
            <a:off x="8229600" y="1523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Text Box 3"/>
          <p:cNvSpPr/>
          <p:nvPr/>
        </p:nvSpPr>
        <p:spPr>
          <a:xfrm>
            <a:off x="5105520" y="2822400"/>
            <a:ext cx="3809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ахерова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Лариса Викторовна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меститель начальника Центрального РОО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WordArt 4"/>
          <p:cNvSpPr txBox="1"/>
          <p:nvPr/>
        </p:nvSpPr>
        <p:spPr>
          <a:xfrm>
            <a:off x="2819520" y="76320"/>
            <a:ext cx="31050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Авторы</a:t>
            </a:r>
            <a:endParaRPr b="0" lang="en-US" sz="4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97" name="Picture 6" descr="P:\naturmort\Maherova.jpg"/>
          <p:cNvPicPr/>
          <p:nvPr/>
        </p:nvPicPr>
        <p:blipFill>
          <a:blip r:embed="rId3"/>
          <a:stretch/>
        </p:blipFill>
        <p:spPr>
          <a:xfrm>
            <a:off x="114480" y="1643040"/>
            <a:ext cx="4762440" cy="3571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Text Box 2"/>
          <p:cNvSpPr/>
          <p:nvPr/>
        </p:nvSpPr>
        <p:spPr>
          <a:xfrm>
            <a:off x="8229600" y="1523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Text Box 3"/>
          <p:cNvSpPr/>
          <p:nvPr/>
        </p:nvSpPr>
        <p:spPr>
          <a:xfrm>
            <a:off x="4876920" y="2438280"/>
            <a:ext cx="4038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авлютов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ильлюр Рафикович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иректор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Юрт-Акбалыкской основной общеобразовательной школ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WordArt 4"/>
          <p:cNvSpPr txBox="1"/>
          <p:nvPr/>
        </p:nvSpPr>
        <p:spPr>
          <a:xfrm>
            <a:off x="2819520" y="76320"/>
            <a:ext cx="31050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Авторы</a:t>
            </a:r>
            <a:endParaRPr b="0" lang="en-US" sz="4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01" name="Picture 6" descr="P:\naturmort\Mavlutov.jpg"/>
          <p:cNvPicPr/>
          <p:nvPr/>
        </p:nvPicPr>
        <p:blipFill>
          <a:blip r:embed="rId3"/>
          <a:stretch/>
        </p:blipFill>
        <p:spPr>
          <a:xfrm>
            <a:off x="114480" y="1643040"/>
            <a:ext cx="4762440" cy="3571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9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 Box 2"/>
          <p:cNvSpPr/>
          <p:nvPr/>
        </p:nvSpPr>
        <p:spPr>
          <a:xfrm>
            <a:off x="8229600" y="1523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Text Box 3"/>
          <p:cNvSpPr/>
          <p:nvPr/>
        </p:nvSpPr>
        <p:spPr>
          <a:xfrm>
            <a:off x="5105520" y="2666880"/>
            <a:ext cx="3809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ленников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ихаил Михайлович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иректор коррекционной школ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WordArt 4"/>
          <p:cNvSpPr txBox="1"/>
          <p:nvPr/>
        </p:nvSpPr>
        <p:spPr>
          <a:xfrm>
            <a:off x="2819520" y="76320"/>
            <a:ext cx="31050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Авторы</a:t>
            </a:r>
            <a:endParaRPr b="0" lang="en-US" sz="4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05" name="Picture 6" descr="P:\naturmort\Olennikov.jpg"/>
          <p:cNvPicPr/>
          <p:nvPr/>
        </p:nvPicPr>
        <p:blipFill>
          <a:blip r:embed="rId3"/>
          <a:stretch/>
        </p:blipFill>
        <p:spPr>
          <a:xfrm>
            <a:off x="114480" y="1643040"/>
            <a:ext cx="4762440" cy="3571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2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 Box 2"/>
          <p:cNvSpPr/>
          <p:nvPr/>
        </p:nvSpPr>
        <p:spPr>
          <a:xfrm>
            <a:off x="8229600" y="1523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Text Box 3"/>
          <p:cNvSpPr/>
          <p:nvPr/>
        </p:nvSpPr>
        <p:spPr>
          <a:xfrm>
            <a:off x="5105520" y="2666880"/>
            <a:ext cx="4038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Шмаков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алина Павловна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иректор средней школы №168 г. Новосибирск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WordArt 4"/>
          <p:cNvSpPr txBox="1"/>
          <p:nvPr/>
        </p:nvSpPr>
        <p:spPr>
          <a:xfrm>
            <a:off x="2819520" y="76320"/>
            <a:ext cx="31050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Авторы</a:t>
            </a:r>
            <a:endParaRPr b="0" lang="en-US" sz="4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09" name="Picture 7" descr="P:\naturmort\Shmakova.jpg"/>
          <p:cNvPicPr/>
          <p:nvPr/>
        </p:nvPicPr>
        <p:blipFill>
          <a:blip r:embed="rId3"/>
          <a:stretch/>
        </p:blipFill>
        <p:spPr>
          <a:xfrm>
            <a:off x="114480" y="1643040"/>
            <a:ext cx="4762440" cy="3571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5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 Box 2"/>
          <p:cNvSpPr/>
          <p:nvPr/>
        </p:nvSpPr>
        <p:spPr>
          <a:xfrm>
            <a:off x="8229600" y="1523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Text Box 3"/>
          <p:cNvSpPr/>
          <p:nvPr/>
        </p:nvSpPr>
        <p:spPr>
          <a:xfrm>
            <a:off x="4876920" y="2666880"/>
            <a:ext cx="4038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аров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Любовь Андреевна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в. методическим кабинетом Колыванского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ОО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WordArt 4"/>
          <p:cNvSpPr txBox="1"/>
          <p:nvPr/>
        </p:nvSpPr>
        <p:spPr>
          <a:xfrm>
            <a:off x="2819520" y="76320"/>
            <a:ext cx="31050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Авторы</a:t>
            </a:r>
            <a:endParaRPr b="0" lang="en-US" sz="4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13" name="Picture 6" descr="P:\naturmort\Tarova.jpg"/>
          <p:cNvPicPr/>
          <p:nvPr/>
        </p:nvPicPr>
        <p:blipFill>
          <a:blip r:embed="rId3"/>
          <a:stretch/>
        </p:blipFill>
        <p:spPr>
          <a:xfrm>
            <a:off x="114480" y="1643040"/>
            <a:ext cx="4762440" cy="3571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8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2"/>
          <p:cNvSpPr/>
          <p:nvPr/>
        </p:nvSpPr>
        <p:spPr>
          <a:xfrm>
            <a:off x="8229600" y="1523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Text Box 3"/>
          <p:cNvSpPr/>
          <p:nvPr/>
        </p:nvSpPr>
        <p:spPr>
          <a:xfrm>
            <a:off x="5105520" y="2666880"/>
            <a:ext cx="3809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Железнов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ина Юрьевна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иблиотекар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центральной библиотек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WordArt 4"/>
          <p:cNvSpPr txBox="1"/>
          <p:nvPr/>
        </p:nvSpPr>
        <p:spPr>
          <a:xfrm>
            <a:off x="2819520" y="76320"/>
            <a:ext cx="31050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Авторы</a:t>
            </a:r>
            <a:endParaRPr b="0" lang="en-US" sz="4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17" name="Picture 6" descr="P:\naturmort\Zheleznova.jpg"/>
          <p:cNvPicPr/>
          <p:nvPr/>
        </p:nvPicPr>
        <p:blipFill>
          <a:blip r:embed="rId3"/>
          <a:stretch/>
        </p:blipFill>
        <p:spPr>
          <a:xfrm>
            <a:off x="114480" y="1643040"/>
            <a:ext cx="4762440" cy="3571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1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8229600" y="1523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Text Box 3"/>
          <p:cNvSpPr/>
          <p:nvPr/>
        </p:nvSpPr>
        <p:spPr>
          <a:xfrm>
            <a:off x="4952880" y="2666880"/>
            <a:ext cx="3962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Железнова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алина Михайловна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в. методическим кабинетом Сузунского РОО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WordArt 4"/>
          <p:cNvSpPr txBox="1"/>
          <p:nvPr/>
        </p:nvSpPr>
        <p:spPr>
          <a:xfrm>
            <a:off x="2819520" y="76320"/>
            <a:ext cx="31050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Авторы</a:t>
            </a:r>
            <a:endParaRPr b="0" lang="en-US" sz="4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21" name="Picture 6" descr="P:\naturmort\ZheleznovaGM.jpg"/>
          <p:cNvPicPr/>
          <p:nvPr/>
        </p:nvPicPr>
        <p:blipFill>
          <a:blip r:embed="rId3"/>
          <a:stretch/>
        </p:blipFill>
        <p:spPr>
          <a:xfrm>
            <a:off x="114480" y="1643040"/>
            <a:ext cx="4762440" cy="3571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568" dur="indefinite" restart="never" nodeType="tmRoot">
          <p:childTnLst>
            <p:seq>
              <p:cTn id="569" dur="indefinite" nodeType="mainSeq">
                <p:childTnLst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4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4"/>
          <p:cNvSpPr/>
          <p:nvPr/>
        </p:nvSpPr>
        <p:spPr>
          <a:xfrm>
            <a:off x="5013360" y="148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5257800" y="1676520"/>
            <a:ext cx="36576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Text Box 8"/>
          <p:cNvSpPr/>
          <p:nvPr/>
        </p:nvSpPr>
        <p:spPr>
          <a:xfrm>
            <a:off x="4952880" y="2282760"/>
            <a:ext cx="4038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ложение его многообразных форм и типов произошло в эпоху Возрождения, хотя отдельные мотивы и детали встречаются в искусстве Древнего Востока и античности: овощи, гирлянды или так называемые неприбранные комнаты в мозаиках, стенных росписях, рельефах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WordArt 9"/>
          <p:cNvSpPr txBox="1"/>
          <p:nvPr/>
        </p:nvSpPr>
        <p:spPr>
          <a:xfrm>
            <a:off x="2819520" y="76320"/>
            <a:ext cx="31050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тюрморт</a:t>
            </a:r>
            <a:endParaRPr b="1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2" name="Picture 12" descr="P:\naturmort\kozlovsky.jpg"/>
          <p:cNvPicPr/>
          <p:nvPr/>
        </p:nvPicPr>
        <p:blipFill>
          <a:blip r:embed="rId1"/>
          <a:stretch/>
        </p:blipFill>
        <p:spPr>
          <a:xfrm>
            <a:off x="114480" y="1638360"/>
            <a:ext cx="4762440" cy="3581280"/>
          </a:xfrm>
          <a:prstGeom prst="rect">
            <a:avLst/>
          </a:prstGeom>
          <a:ln w="0">
            <a:noFill/>
          </a:ln>
        </p:spPr>
      </p:pic>
      <p:sp>
        <p:nvSpPr>
          <p:cNvPr id="63" name="Text Box 13"/>
          <p:cNvSpPr/>
          <p:nvPr/>
        </p:nvSpPr>
        <p:spPr>
          <a:xfrm>
            <a:off x="304920" y="5337000"/>
            <a:ext cx="42670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Times New Roman"/>
              </a:rPr>
              <a:t>И. И. Козловский (1830 -?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Натюрморт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Холст, масло. 1858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Ульяновский областной художественный музей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5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3"/>
          <p:cNvSpPr/>
          <p:nvPr/>
        </p:nvSpPr>
        <p:spPr>
          <a:xfrm>
            <a:off x="5013360" y="148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5257800" y="1676520"/>
            <a:ext cx="36576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Text Box 5"/>
          <p:cNvSpPr/>
          <p:nvPr/>
        </p:nvSpPr>
        <p:spPr>
          <a:xfrm>
            <a:off x="4952880" y="2282760"/>
            <a:ext cx="4038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ревние авторы о первом мастере греческом живописце Периакосе, жившем в эллинистическую эпоху. Возможно, что его картины послужили образцами для фресок в Помпеях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Это яркие и сочные изображения цветов, фруктов, а также ритуальных сосудов, письменных приборов, монет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WordArt 6"/>
          <p:cNvSpPr txBox="1"/>
          <p:nvPr/>
        </p:nvSpPr>
        <p:spPr>
          <a:xfrm>
            <a:off x="2819520" y="76320"/>
            <a:ext cx="31050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тюрморт</a:t>
            </a:r>
            <a:endParaRPr b="1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8" name="Picture 8" descr="P:\naturmort\dal.jpg"/>
          <p:cNvPicPr/>
          <p:nvPr/>
        </p:nvPicPr>
        <p:blipFill>
          <a:blip r:embed="rId1"/>
          <a:stretch/>
        </p:blipFill>
        <p:spPr>
          <a:xfrm>
            <a:off x="819000" y="1047600"/>
            <a:ext cx="3753000" cy="4762800"/>
          </a:xfrm>
          <a:prstGeom prst="rect">
            <a:avLst/>
          </a:prstGeom>
          <a:ln w="0">
            <a:noFill/>
          </a:ln>
        </p:spPr>
      </p:pic>
      <p:sp>
        <p:nvSpPr>
          <p:cNvPr id="69" name="Text Box 9"/>
          <p:cNvSpPr/>
          <p:nvPr/>
        </p:nvSpPr>
        <p:spPr>
          <a:xfrm>
            <a:off x="304920" y="5867280"/>
            <a:ext cx="4800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Times New Roman"/>
              </a:rPr>
              <a:t>Жан Франсуа ван Даль (?) (1764-1840). Французская  школа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Фрукты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Дерево, масло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5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3"/>
          <p:cNvSpPr/>
          <p:nvPr/>
        </p:nvSpPr>
        <p:spPr>
          <a:xfrm>
            <a:off x="5013360" y="148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Text Box 4"/>
          <p:cNvSpPr/>
          <p:nvPr/>
        </p:nvSpPr>
        <p:spPr>
          <a:xfrm>
            <a:off x="5257800" y="1676520"/>
            <a:ext cx="36576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WordArt 6"/>
          <p:cNvSpPr txBox="1"/>
          <p:nvPr/>
        </p:nvSpPr>
        <p:spPr>
          <a:xfrm>
            <a:off x="2819520" y="76320"/>
            <a:ext cx="31050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тюрморт</a:t>
            </a:r>
            <a:endParaRPr b="1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73" name="Picture 8" descr="P:\naturmort\sharden.jpg"/>
          <p:cNvPicPr/>
          <p:nvPr/>
        </p:nvPicPr>
        <p:blipFill>
          <a:blip r:embed="rId1"/>
          <a:stretch/>
        </p:blipFill>
        <p:spPr>
          <a:xfrm>
            <a:off x="114480" y="1733400"/>
            <a:ext cx="4762440" cy="3391200"/>
          </a:xfrm>
          <a:prstGeom prst="rect">
            <a:avLst/>
          </a:prstGeom>
          <a:ln w="0">
            <a:noFill/>
          </a:ln>
        </p:spPr>
      </p:pic>
      <p:sp>
        <p:nvSpPr>
          <p:cNvPr id="74" name="Text Box 9"/>
          <p:cNvSpPr/>
          <p:nvPr/>
        </p:nvSpPr>
        <p:spPr>
          <a:xfrm>
            <a:off x="0" y="5337000"/>
            <a:ext cx="50292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Times New Roman"/>
              </a:rPr>
              <a:t>Жан Батист Симеон Шарден (1699-1779). Французская школа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Натюрморт с атрибутами искусств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Холст, масло. 1766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Государственный Эрмитаж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Text Box 10"/>
          <p:cNvSpPr/>
          <p:nvPr/>
        </p:nvSpPr>
        <p:spPr>
          <a:xfrm>
            <a:off x="4952880" y="990720"/>
            <a:ext cx="40388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знаменитой “Естественной истории” древнеримский ученый, писатель и государственный деятель Плиний Старший рассказывает о споре между греческими живописцами Зевксисом и Паррасием: Зевксис столь правдоподобно написал виноградные гроздья, что голодные птицы слетались их клевать .Паррасий же настолько совершенно изобразил занавес в своей мастерской, что сам Зевксис принял его за настоящий. После этого Зевксис признал себя побежденным, так как ему удалось обмануть лишь птиц, в то время как Паррасий ввел в заблуждение его самого – прославленного мастера, виртуозно владеющего приемами светотеневой моделировки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0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3"/>
          <p:cNvSpPr/>
          <p:nvPr/>
        </p:nvSpPr>
        <p:spPr>
          <a:xfrm>
            <a:off x="5013360" y="148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5257800" y="1676520"/>
            <a:ext cx="36576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WordArt 6"/>
          <p:cNvSpPr txBox="1"/>
          <p:nvPr/>
        </p:nvSpPr>
        <p:spPr>
          <a:xfrm>
            <a:off x="2819520" y="76320"/>
            <a:ext cx="31050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тюрморт</a:t>
            </a:r>
            <a:endParaRPr b="1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79" name="Picture 8" descr="P:\naturmort\minon.jpg"/>
          <p:cNvPicPr/>
          <p:nvPr/>
        </p:nvPicPr>
        <p:blipFill>
          <a:blip r:embed="rId1"/>
          <a:stretch/>
        </p:blipFill>
        <p:spPr>
          <a:xfrm>
            <a:off x="352440" y="1047600"/>
            <a:ext cx="3686040" cy="4762800"/>
          </a:xfrm>
          <a:prstGeom prst="rect">
            <a:avLst/>
          </a:prstGeom>
          <a:ln w="0">
            <a:noFill/>
          </a:ln>
        </p:spPr>
      </p:pic>
      <p:sp>
        <p:nvSpPr>
          <p:cNvPr id="80" name="Text Box 10"/>
          <p:cNvSpPr/>
          <p:nvPr/>
        </p:nvSpPr>
        <p:spPr>
          <a:xfrm>
            <a:off x="380880" y="5838840"/>
            <a:ext cx="4191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Times New Roman"/>
              </a:rPr>
              <a:t>Абрагам Миньон (1640-1679) (?)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Натюрморт с какаду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Холст, масло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Ульяновский областной художественный музей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Text Box 11"/>
          <p:cNvSpPr/>
          <p:nvPr/>
        </p:nvSpPr>
        <p:spPr>
          <a:xfrm>
            <a:off x="4267080" y="1839960"/>
            <a:ext cx="47246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артины Зевксиса и Паррасия до нас не дошли, и судить о них можно лишь по рассказам античных писателей и копиям римских художников, сохранившимся в незначительном количестве. Но описанный Плинием принцип имитации видимых предметов, создающий впечатление о них как о реально существующих и даже заставляющих ошибаться искушенный глаз художника, дожил до наших дней и нередко встречается в современной живописи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09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1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1027"/>
          <p:cNvSpPr/>
          <p:nvPr/>
        </p:nvSpPr>
        <p:spPr>
          <a:xfrm>
            <a:off x="5013360" y="148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Text Box 1028"/>
          <p:cNvSpPr/>
          <p:nvPr/>
        </p:nvSpPr>
        <p:spPr>
          <a:xfrm>
            <a:off x="4267080" y="914400"/>
            <a:ext cx="47246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Этот принцип получил название иллюзионизма (от латинского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llusio –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бман, насмешка). Частным видом этой иллюзионистической живописи являются обманки (от французского словосочетания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ompe d’oeil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– обман глаза, зрения). “Обманками”, особенно любимыми в эпоху Возрождения и барокко, часто служили дверцы шкафов с написанными на них 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корешками книг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или так называемые охотничьи трофеи – убитые рябчики, тетерева, зайцы, также украшавшие дверцы шкафов для хранения дичи и воспринимавшиеся как реальные. Иногда роль “обманок” в картине выполняют отдельные иллюзорно выписанные детали, например, мухи на арбузе, стрекозы и бабочки на цветах и листьях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WordArt 1029"/>
          <p:cNvSpPr txBox="1"/>
          <p:nvPr/>
        </p:nvSpPr>
        <p:spPr>
          <a:xfrm>
            <a:off x="2819520" y="76320"/>
            <a:ext cx="31050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тюрморт</a:t>
            </a:r>
            <a:endParaRPr b="1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85" name="Picture 1031" descr="P:\naturmort\bogovolov.jpg"/>
          <p:cNvPicPr/>
          <p:nvPr/>
        </p:nvPicPr>
        <p:blipFill>
          <a:blip r:embed="rId1"/>
          <a:stretch/>
        </p:blipFill>
        <p:spPr>
          <a:xfrm>
            <a:off x="905040" y="1047600"/>
            <a:ext cx="2752560" cy="4762800"/>
          </a:xfrm>
          <a:prstGeom prst="rect">
            <a:avLst/>
          </a:prstGeom>
          <a:ln w="0">
            <a:noFill/>
          </a:ln>
        </p:spPr>
      </p:pic>
      <p:sp>
        <p:nvSpPr>
          <p:cNvPr id="86" name="Text Box 1032"/>
          <p:cNvSpPr/>
          <p:nvPr/>
        </p:nvSpPr>
        <p:spPr>
          <a:xfrm>
            <a:off x="76320" y="5867280"/>
            <a:ext cx="49528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Times New Roman"/>
              </a:rPr>
              <a:t>П. Г. Богомолов (художник первой половины 18 века)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Книги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Холст, масло. 1737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Музей керамики и усадьба «Кусково» 18 века, Москва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3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1027"/>
          <p:cNvSpPr/>
          <p:nvPr/>
        </p:nvSpPr>
        <p:spPr>
          <a:xfrm>
            <a:off x="5013360" y="148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Text Box 1028"/>
          <p:cNvSpPr/>
          <p:nvPr/>
        </p:nvSpPr>
        <p:spPr>
          <a:xfrm>
            <a:off x="5105520" y="914400"/>
            <a:ext cx="388620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Этот принцип получил название иллюзионизма (от латинского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llusio –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бман, насмешка). Частным видом этой иллюзионистической живописи являются обманки (от французского словосочетания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ompe d’oeil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– обман глаза, зрения). “Обманками”, особенно любимыми в эпоху Возрождения и барокко, часто служили дверцы шкафов с написанными на них корешками книг или так называемые охотничьи трофеи – 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убитые рябчики, тетерева, зайцы,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также украшавшие дверцы шкафов для хранения дичи и воспринимавшиеся как реальные. Иногда роль “обманок” в картине выполняют отдельные иллюзорно выписанные детали, например, мухи на арбузе, стрекозы и бабочки на цветах и листьях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WordArt 1029"/>
          <p:cNvSpPr txBox="1"/>
          <p:nvPr/>
        </p:nvSpPr>
        <p:spPr>
          <a:xfrm>
            <a:off x="2819520" y="76320"/>
            <a:ext cx="31050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тюрморт</a:t>
            </a:r>
            <a:endParaRPr b="1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0" name="Picture 1033" descr="P:\naturmort\Empoli.jpg"/>
          <p:cNvPicPr/>
          <p:nvPr/>
        </p:nvPicPr>
        <p:blipFill>
          <a:blip r:embed="rId1"/>
          <a:stretch/>
        </p:blipFill>
        <p:spPr>
          <a:xfrm>
            <a:off x="114480" y="1795320"/>
            <a:ext cx="4762440" cy="3267360"/>
          </a:xfrm>
          <a:prstGeom prst="rect">
            <a:avLst/>
          </a:prstGeom>
          <a:ln w="0">
            <a:noFill/>
          </a:ln>
        </p:spPr>
      </p:pic>
      <p:sp>
        <p:nvSpPr>
          <p:cNvPr id="91" name="Text Box 1034"/>
          <p:cNvSpPr/>
          <p:nvPr/>
        </p:nvSpPr>
        <p:spPr>
          <a:xfrm>
            <a:off x="304920" y="5337000"/>
            <a:ext cx="38098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Times New Roman"/>
              </a:rPr>
              <a:t>Якопо Кименти да Эмполи. Около 1551-164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Натюрморт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Холст, масло. 1620-е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Государственный музей изобразительных искусств имени А. С Пушкина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9T08:48:16Z</dcterms:created>
  <dc:creator>1u09</dc:creator>
  <dc:description/>
  <dc:language>en-US</dc:language>
  <cp:lastModifiedBy>Owner</cp:lastModifiedBy>
  <dcterms:modified xsi:type="dcterms:W3CDTF">2011-07-21T18:46:23Z</dcterms:modified>
  <cp:revision>49</cp:revision>
  <dc:subject/>
  <dc:title>Заголовок слайда отсутствует</dc:title>
</cp:coreProperties>
</file>